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0A6C-61C2-41C5-BCDC-BC83E4C65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A8C6-8295-4E76-9C4F-32F0CEC2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4C81FE-B957-4F2D-8738-55C9416E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4708E-9C26-468C-871A-DB848286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66F351-FE09-4710-B61A-C9C689FF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C7B61-E996-4177-8959-BF1B45C5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95F08-D546-4D49-BEA5-336EBB4F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071A2-0138-4359-9678-E29B2256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B4F9D-3B1A-421F-8EEC-7E65A7A3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D727D0-E8AC-4D40-8FA2-BA277C7CB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6AE090-F566-483D-9D97-EDDFB4944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18781F-2B5A-47B0-B0C5-867042921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0A0A-9F7D-4DDD-BF6A-A1D47E579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D9DE29-DBDB-44DC-9B74-861F8EDC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1CF72-1761-4F21-A381-05C36D64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14F714-48A7-464C-AEE3-3C3FF45C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3F8077-5DA5-4973-8023-CD23A0F1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E3BAA7-96D0-4FEC-B66E-8F4252FD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21DA32-1B07-4093-A737-E0D55D59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3BB442-9C68-45E9-98A7-FB713AE6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C4965B-4315-4DC7-82DB-2275BF6C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1B1FA-12EE-4CBE-A4A2-AAE95ECE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6C4B34-425C-4A73-9B22-251111816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B340-0BB4-468B-8B75-6D2060C0D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E8E098-EA35-497C-A87A-431BCB5CF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E53691-6DCA-4D3B-87D5-C5460794F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8FD95B-ABF1-42E0-9E24-9E1D7371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C7291-4ABE-4616-A3C8-14D4A69D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2361F-6453-4D0C-BB0A-E3ADE20A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A8C22-2A5F-4BBC-833F-0DBE6991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9C8EE-5859-4270-91EA-FA7639F0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8F4C8-C664-485A-93D5-873FAC82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E0F11-DE5B-48E6-A207-D0454F40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E54A97-AEB6-4F29-91D4-AEF4E08F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FF9D0-C3E0-4347-BD7E-EAF7A4A34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E43BA-3490-48E7-98C6-9FFC9A24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0330D-312B-402D-AF8E-58F6B1289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F471D-E32B-4F25-804A-8BE7BEC28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53A909-2039-4EDD-8430-D032187E8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6D1D3B-657A-4ACF-8949-ED64C8C5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2B856B-B2BE-4EFE-89B5-BBB94E66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35EA06-E6A7-4159-AC82-19007F5D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669002-01CB-4A2B-93AC-330AC2BD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C61FA9-28A2-4E5B-8569-9292BD07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4FAF70-9E26-459C-B3D3-7C82FAAC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088D-A29A-4C13-8849-7A24D626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99EF69-8346-4766-AAAD-C2DF4F30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2210EC-2D36-4943-8665-1B1EF9F5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F5A335-9F85-4682-ABE4-652F7CF9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F2E05B-630A-4E44-9C58-783F1E7E9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C1895F-3BD9-4173-A7AD-11A9C89AC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EE8840-5F33-4B1F-A779-67849645C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F6A977-F55A-4991-ADD1-3A35E0C6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40A268-2556-4209-BDE9-45A25A27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0B0A7A-FF7D-4653-980E-E46213F5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D328FC-CE75-44EE-95F8-E93629E6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1D74-37B3-4944-9C1F-11D289D9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DBFB99-17D8-400C-8DE6-BB9BD517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D6AE65-D348-480F-9310-89912571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B41E5F-EC6E-471B-98D7-96E2E329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DE1F56-2C89-4846-872E-0D660B76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3FB0AF-6FBF-45B7-BB4A-8993CB13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1C0458-FE96-4107-A4F1-AC537FF48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419629-DEA8-4288-B003-0E1624284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7FE584-B85B-40F1-9B2E-015CAF1CA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8BE7DE-CFA8-4A9D-B80D-39AD551C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6BA5D7-E3C5-4B0E-84D4-CF02D0F6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BA0F-E364-44FE-9607-A61FB21A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610472-1CC1-471D-BDE2-3FD52CA2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370E04-8212-46C4-9A00-4C6BCE65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46DDA4-3996-4FF8-A824-26691E98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593B2E-BFAC-4A6E-825E-88A125CB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75CCB9-D762-4ACF-8F64-F12C2D31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4B10CE-041A-4697-BC68-7394CC40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C1DCDC-BAEF-42C8-BA49-6AD5384A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C45DFE-F3A1-4950-9321-3A652F99E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D1A6C2-2016-451B-AC7E-E219F4C14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3DF781-30A9-43A8-9489-CB2A82E03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B181F-0439-4481-ACEF-665E8163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48B352-ECA3-4C65-A567-6A86DE5D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C4B322-AB37-400D-8E4D-9771E01B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FEBF38-2069-45C7-8B0B-910BB675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8DF0CD-1EA5-4D12-80C3-347708B3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FC54FD-F8CD-4963-B03D-F10A924A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7DB043-1B74-4301-A8A8-E7BEFD72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67B9F9-84C9-440A-8A8E-30F94DDA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4E5E5A-986C-4517-BD88-404EEB0F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E9A5D5-5417-48B3-9294-E0F2CC3A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73A852-7B5D-40B4-9A81-47A1328B8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06DC-1072-455D-8B14-84665329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C346BD-A269-47B0-A00A-1ABBD5DF9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5C01FE-2554-4001-A0D3-F4E536E08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885DD6-ED6F-4A6E-AB9F-512F589C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AEB4C7-EE70-42DF-8064-4DD4C808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58F488-8B26-4DF3-9FF8-E32CFD67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B6BCA3-DE0F-42A2-ACD1-6569B820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DE2D0A-C4D6-41EF-8185-2335E100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288032-69EF-4489-B0A3-F387E369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4FD63A-FFFC-43DB-A232-3C8DAF63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7A20F8-12C2-4F8B-B7FE-535345C2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D825-A421-482C-B3E5-620FDE08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9B03E9-D866-4A4C-9FD7-EE2FD214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C68586-3825-402B-B96B-BF61B38D0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F9EDB0-0BDB-4AA1-85F4-40E46BA36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984872-623A-4E07-8973-D2FD601CD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DF47F9-034A-431E-88F2-07C1E000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13599B-DCE2-4309-91AB-FEF2E6EE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35AC76-CFAB-46BC-9304-5B196671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9DFB31-9CB5-4230-8826-82E51E43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351795-3362-4CEF-B5B4-D68894D8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740E60-A65F-4BF2-9E1B-8B8507C8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0872-38AB-44DD-8AF0-A0AC28E8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FCE7-B363-4791-806E-0D038E0D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566F06-AABA-49B1-8862-AC9D5136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B35F80-8776-47FB-89B9-271EB998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4F7627-E3D3-4A66-9C03-D71807C87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E21124-3682-462D-AC02-EF29FC276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942EDF-C4AE-4FE3-9934-5D2BBBE95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668DDE-DF17-4309-B23C-23BA2553E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74E739-A2D7-486E-B208-27266744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9C2DC4-6602-4E84-89C2-881FEDB8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CBD106-BD84-4328-A0F2-8D186B8D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C3CADC-6F27-44EC-8CE1-23FCBDE7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4CBC-589A-4D45-B9B2-A550B713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321C19-0B72-4F4E-9FFB-407A633B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8A5AF5-5D25-4767-B941-8860B7F4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8D31C0-48D3-48A0-B731-2B1FBA22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1A5388-4667-4576-9BC0-9B0B0F83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748733-1183-4B61-9C39-65C2A7CE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5A3DB1-64D5-4911-9D3F-608EB4F26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DB8325-681B-416D-AFB6-118EDBDA5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FC3811-0F2A-4B0D-8EEE-74BAE7188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18D94A-C816-43EC-B58C-AFB87742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840B19-42B1-4B79-90B6-6A04713A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97EE-8C75-4A60-99CC-3D7D909F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94E0BA-D5F4-4F14-BAEE-F6BDA41A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928591-73D5-4EFC-8583-A701518C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B578E2-6528-456F-A727-CB661AB3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BDBFD0-9FBB-4799-A929-D28F583A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7CA228-DF8F-4CDC-BAD0-D5D75F4C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CD6DE2-DFDB-4C6F-8FC6-BCB6872C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431FC7-9A53-454B-ADAA-BEBE5BA0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18FF2C-2931-4A99-9E73-CCAAE4AA8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3E6DA8-7827-410E-B37B-F6E36927A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70E112-E5E7-4657-B78F-B475C025D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14B3-A4EB-4173-A068-E588C3BA2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BDE08D-3935-4AA3-ACB8-F5F7C135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FE1305-2E82-4305-A1F8-B41F48A4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A13FF3-8A81-4375-A49B-0AFC5BE1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8F02BF-D5C3-4B62-9E1D-00DF47CE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7F7FFD-615B-4FB8-9B74-B1660666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D3F4A0-7D78-4EE8-A0DF-F30B464E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F35F75-BCE3-4CA3-B7F2-2D893B89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5DCCFF-9188-4FC0-BDD1-9F65214E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422860-65AF-4902-9D25-4B7BE67B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61740B-88EC-4D33-BD49-9ACF3B5C3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6E3D-7542-464E-BA2E-AFA03DA91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F34BFD-A880-400A-A5BC-360F0248E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0BBC5F-E3CD-43C7-A7CE-46CB46AAF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6CD986-4D9B-494C-86C3-31BFA2B7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866DFB-462C-4C69-AE9A-3AED311C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A9CE86-9435-4726-A45B-A60B9DBA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F4E175-A63D-44A1-9713-8FC1AF2C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D1280C-0E83-453A-BC64-3619AB63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891E51-C209-4EF1-8F34-5DF0C8F9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B63498-FB54-4AE9-8A48-A2E1F0B8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C32BBE-8AC7-43B4-B037-AFF6E13B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358C5-18E5-4AD4-9CEE-EDAB5C58E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BABF70-4898-4F4F-A8DA-8F3AC3EF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200693-A7A9-469E-A5E0-5BE088595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551622-8388-4B97-BA0C-E2DEE27C9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C0217-C1A5-4E90-96C7-2A666034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156AA-86FE-40B8-8BC8-6BA83DA5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6CD87-9D6A-4C9A-BF14-5197400D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24B02-DDBF-4B2B-8F2A-67CFC412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73B9-1A61-4BF9-889B-E7EDF579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B0008-0350-4037-8780-862ADDA3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91C43-C1B7-4046-A529-0D66C18E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4931D-9362-40DA-8530-AF6F0068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63596-D1CA-45A2-B322-3F9B1521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CD597-7911-4383-8B64-F0CB0236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122BD-7696-46E4-84B6-C3D0AC78C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854B8-5475-41C4-9EA3-551BF38D4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970AE-F650-4CC7-9E72-F83DB6001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B102E-01E3-4DED-A047-FA432223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E37E5-4E8E-4FC7-B756-518CCBC6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244B-905C-4174-B7F7-8FE1E49B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7970A-CD4C-47E0-90A7-96A2C929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02014-254F-4BAB-B887-0E547E42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505C2-B502-47A1-B42A-9D8EAA29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F1783-0F91-4878-9842-736D413B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28ADD-C739-4623-8A66-792C5675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1A261-7423-4CEC-B53A-11DA26B2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98718-1E0D-4563-9194-4BE74870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39936-3D49-47AA-82F2-7ADB33083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9CD5B-2194-40C4-9984-32C5DE8CE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9EB77-87C1-45CF-82A2-364D30D93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4827-2F7C-4D66-86EE-D6FD63AE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CC38C-DF43-4719-BD53-A80C4208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21F06-9D0F-4F8E-9AC8-0723BAF7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40BA7-DE82-434B-8381-64638478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CAD6B-B818-41CD-8F3C-AE1C4D2E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B41FB-D37A-4C53-9802-C151EB91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726A2-1415-4912-9F0A-EB992CE3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BE1D7-43F3-4B1A-AA10-5EA32FD6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83633-D586-46C4-BD83-EB21847D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CABE0-6A12-471E-BB9E-6F1FF75C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5E43C-8266-4394-87AA-220A02DF8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C905-87A6-48FF-9824-9A323D1F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0767F-3C84-486C-A8E5-AAC4AB54F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05E40-D910-4158-B0D6-D2A21F67C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9BC19-1BB0-4295-9966-7D6B82DE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C1D0E-A76F-4B5C-A842-01D5AEBE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B4B59-CB3B-4381-A312-07BFA869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69D46-C3F1-4E5C-B08E-EB48FA5D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269C8-D2BE-4C38-B2A7-CAFB700D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3E8D3-6B94-4C44-9802-E69B2482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32865-DF47-40BC-9243-1CECCA7D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6AC03-CC29-48CD-86AB-81455D8A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1983-7887-408E-B546-DF91A30C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2A1CB-0AB4-49CE-B6C6-3D5A4167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172FA-EB12-48C1-965C-D68B79A2D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F196B-BC88-4C2E-A193-A28B15916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D48DA-49E8-475C-8DB7-F3F02B722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F946F-1897-4063-9CEB-D29E5013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6E4A7-6405-4FFB-9AB6-7CDAD395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1F1B7-61BD-4E61-B426-6D0ED119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8C1B5-5163-407F-9D93-1A8F5254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3C1CD-4F38-4AE7-9CA1-B1DECE1D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802C6-349C-4844-BFB9-02BCEF29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9480-FC32-4664-8BB0-E29FCD31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C7F33-A2D9-4A52-B0A5-63ED3483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C0877-9288-4F48-AC71-0DEA2DE1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8745E-0A9A-4616-AE8B-83F4F735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EF0B7-0F47-4F11-BA0C-99A373A09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E2B53-874F-42DA-83CE-FDBC198FC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551C5-5700-44B8-A65A-FDE166913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7B558-6268-47A6-AB5A-CD74FC3E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7E3A0-252E-4A21-AE3C-015D876E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1AA49-4CE2-4521-B717-8D29EA99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FDBDB-F9B5-4477-9506-FD8D8CED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B460-2590-4A68-B3D6-359B1673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AE206-4ED1-42E7-BFA0-394414DD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AE55D-E2F1-4535-A82E-F13C3A41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A8B1E-3660-4EF1-A989-2E630E11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646FB-E0EE-4553-B12D-DDBFB1C1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A05F0-E2A4-46F9-A96D-B51B3E8D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1A45E-2ED8-4E7E-A74C-D1E53BF16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D6FCC-72B0-4E05-8B7D-25DC9F34D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18B6D-AB56-4235-95CC-F24109F72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673B12-D360-477C-9FB5-89ECDBB7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EF05CD-7D39-43DD-92D8-B463CDEB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A691-B729-43A6-8408-D84C4F810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4580-0061-4632-A04E-1CDA4ABD5F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F8F6-9196-41BE-A133-A6CFEAF6C6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9576-6AFF-46D0-B21A-748FAD9877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4FA9-846A-4184-ADA4-6588C30F1E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DD91-F661-4414-A36C-140A4BB0C3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BDF6-18F5-402D-A4A6-8E4A8F1933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ED8C-7DC3-480B-B5FD-017A6017F3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1BD8-066A-4467-AE2A-9BFD9A961C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334D-FC9B-4512-A119-6B0A7D5157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4A70-3D39-46B6-9913-AA79F69B41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3CEE-8A05-40D7-9F24-4894B1F46A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8C0C-A7B1-4963-A65D-275ED7415D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E993-F6F2-46BF-9CC0-DF185AC756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94D9-F2E1-4C09-A61D-0BF801CF95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3478-8F13-4FFD-929C-670E889576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5B06-2BE5-4E09-9188-9A9694681F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256A-410C-4D49-B27A-DF2ED1069F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8D2B-919F-44C4-AFF4-8658F2976E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85AD-0876-4571-9413-99EDBCF60D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8F47-5B4D-40BE-995A-F33BBEC725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391B-6429-4C28-A7D3-485F2235F2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DB8F-842B-47F7-A756-B3F98BBE09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3D76-15EC-4DB9-B98C-AAC728CC5B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00B8-92E9-467F-BDE6-AF79E3433B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967A-060E-4457-93A9-72424C4305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1366-475A-48F7-87D1-2D343044B2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C4A7-8E5E-45F7-868B-0D63A866D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C6B7-4BD7-4EAE-82D5-A9B58C6D60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DE06-B3E3-4185-AC6F-A1595D0F33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86F8-68F0-413B-9155-9DE06A9141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9176-0344-41D3-AA71-091F840160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3B80-A8B4-4404-BB70-DC8374EE38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5104-68A2-4C0B-A5AE-C90C2B61AB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0A7A-EBB5-4DAB-89B4-BEF0B3D499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1041-77F7-44C2-95BC-921831D3CC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1639-6102-44EC-A20F-323556978F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4E43-31CE-40AA-90F9-55C591EF16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F9B9-2612-4C3B-89BD-8A01564D99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F47F-253E-41C1-B784-27B790F542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285840" y="2705040"/>
            <a:ext cx="850104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4" name="Picture 2" descr=""/>
          <p:cNvPicPr/>
          <p:nvPr/>
        </p:nvPicPr>
        <p:blipFill>
          <a:blip r:embed="rId1"/>
          <a:stretch/>
        </p:blipFill>
        <p:spPr>
          <a:xfrm>
            <a:off x="733320" y="1090440"/>
            <a:ext cx="7677360" cy="46771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3" descr=""/>
          <p:cNvPicPr/>
          <p:nvPr/>
        </p:nvPicPr>
        <p:blipFill>
          <a:blip r:embed="rId2"/>
          <a:stretch/>
        </p:blipFill>
        <p:spPr>
          <a:xfrm>
            <a:off x="1619280" y="2060640"/>
            <a:ext cx="471600" cy="43812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3" descr=""/>
          <p:cNvPicPr/>
          <p:nvPr/>
        </p:nvPicPr>
        <p:blipFill>
          <a:blip r:embed="rId3"/>
          <a:stretch/>
        </p:blipFill>
        <p:spPr>
          <a:xfrm>
            <a:off x="1568520" y="2990880"/>
            <a:ext cx="471240" cy="43812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3" descr=""/>
          <p:cNvPicPr/>
          <p:nvPr/>
        </p:nvPicPr>
        <p:blipFill>
          <a:blip r:embed="rId4"/>
          <a:stretch/>
        </p:blipFill>
        <p:spPr>
          <a:xfrm>
            <a:off x="1619280" y="3998880"/>
            <a:ext cx="471600" cy="43812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3" descr=""/>
          <p:cNvPicPr/>
          <p:nvPr/>
        </p:nvPicPr>
        <p:blipFill>
          <a:blip r:embed="rId5"/>
          <a:stretch/>
        </p:blipFill>
        <p:spPr>
          <a:xfrm>
            <a:off x="1619280" y="5013360"/>
            <a:ext cx="4716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1" name="Picture 2" descr=""/>
          <p:cNvPicPr/>
          <p:nvPr/>
        </p:nvPicPr>
        <p:blipFill>
          <a:blip r:embed="rId1"/>
          <a:stretch/>
        </p:blipFill>
        <p:spPr>
          <a:xfrm>
            <a:off x="1243080" y="1766880"/>
            <a:ext cx="665784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561960" y="1147680"/>
            <a:ext cx="8020080" cy="52102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"/>
          <p:cNvPicPr/>
          <p:nvPr/>
        </p:nvPicPr>
        <p:blipFill>
          <a:blip r:embed="rId2"/>
          <a:stretch/>
        </p:blipFill>
        <p:spPr>
          <a:xfrm>
            <a:off x="1214280" y="1714680"/>
            <a:ext cx="7363080" cy="28857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3"/>
          <a:stretch/>
        </p:blipFill>
        <p:spPr>
          <a:xfrm>
            <a:off x="1763640" y="5300640"/>
            <a:ext cx="4716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2" name="Picture 1" descr=""/>
          <p:cNvPicPr/>
          <p:nvPr/>
        </p:nvPicPr>
        <p:blipFill>
          <a:blip r:embed="rId1"/>
          <a:stretch/>
        </p:blipFill>
        <p:spPr>
          <a:xfrm>
            <a:off x="890640" y="1457280"/>
            <a:ext cx="7362720" cy="39434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3" descr=""/>
          <p:cNvPicPr/>
          <p:nvPr/>
        </p:nvPicPr>
        <p:blipFill>
          <a:blip r:embed="rId2"/>
          <a:stretch/>
        </p:blipFill>
        <p:spPr>
          <a:xfrm>
            <a:off x="1258920" y="1413000"/>
            <a:ext cx="471600" cy="4381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3" descr=""/>
          <p:cNvPicPr/>
          <p:nvPr/>
        </p:nvPicPr>
        <p:blipFill>
          <a:blip r:embed="rId3"/>
          <a:stretch/>
        </p:blipFill>
        <p:spPr>
          <a:xfrm>
            <a:off x="1332000" y="3213000"/>
            <a:ext cx="4712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7" name="Picture 1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467840" cy="33530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3" descr=""/>
          <p:cNvPicPr/>
          <p:nvPr/>
        </p:nvPicPr>
        <p:blipFill>
          <a:blip r:embed="rId2"/>
          <a:stretch/>
        </p:blipFill>
        <p:spPr>
          <a:xfrm>
            <a:off x="1258920" y="1838160"/>
            <a:ext cx="471600" cy="438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" descr=""/>
          <p:cNvPicPr/>
          <p:nvPr/>
        </p:nvPicPr>
        <p:blipFill>
          <a:blip r:embed="rId3"/>
          <a:stretch/>
        </p:blipFill>
        <p:spPr>
          <a:xfrm>
            <a:off x="1332000" y="3495600"/>
            <a:ext cx="4712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2" name="Picture 1" descr=""/>
          <p:cNvPicPr/>
          <p:nvPr/>
        </p:nvPicPr>
        <p:blipFill>
          <a:blip r:embed="rId1"/>
          <a:stretch/>
        </p:blipFill>
        <p:spPr>
          <a:xfrm>
            <a:off x="504720" y="1042920"/>
            <a:ext cx="8134560" cy="47721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3" descr=""/>
          <p:cNvPicPr/>
          <p:nvPr/>
        </p:nvPicPr>
        <p:blipFill>
          <a:blip r:embed="rId2"/>
          <a:stretch/>
        </p:blipFill>
        <p:spPr>
          <a:xfrm>
            <a:off x="1619280" y="2708280"/>
            <a:ext cx="471600" cy="43812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3" descr=""/>
          <p:cNvPicPr/>
          <p:nvPr/>
        </p:nvPicPr>
        <p:blipFill>
          <a:blip r:embed="rId3"/>
          <a:stretch/>
        </p:blipFill>
        <p:spPr>
          <a:xfrm>
            <a:off x="1652760" y="4210200"/>
            <a:ext cx="4712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7" name="Picture 1" descr=""/>
          <p:cNvPicPr/>
          <p:nvPr/>
        </p:nvPicPr>
        <p:blipFill>
          <a:blip r:embed="rId1"/>
          <a:stretch/>
        </p:blipFill>
        <p:spPr>
          <a:xfrm>
            <a:off x="795240" y="1395360"/>
            <a:ext cx="7553520" cy="40672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3" descr=""/>
          <p:cNvPicPr/>
          <p:nvPr/>
        </p:nvPicPr>
        <p:blipFill>
          <a:blip r:embed="rId2"/>
          <a:stretch/>
        </p:blipFill>
        <p:spPr>
          <a:xfrm>
            <a:off x="1403280" y="1844640"/>
            <a:ext cx="471600" cy="4381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3" descr=""/>
          <p:cNvPicPr/>
          <p:nvPr/>
        </p:nvPicPr>
        <p:blipFill>
          <a:blip r:embed="rId3"/>
          <a:stretch/>
        </p:blipFill>
        <p:spPr>
          <a:xfrm>
            <a:off x="1403280" y="3284640"/>
            <a:ext cx="4716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2" name="Picture 1" descr=""/>
          <p:cNvPicPr/>
          <p:nvPr/>
        </p:nvPicPr>
        <p:blipFill>
          <a:blip r:embed="rId1"/>
          <a:stretch/>
        </p:blipFill>
        <p:spPr>
          <a:xfrm>
            <a:off x="523800" y="1128600"/>
            <a:ext cx="8096400" cy="49435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3" descr=""/>
          <p:cNvPicPr/>
          <p:nvPr/>
        </p:nvPicPr>
        <p:blipFill>
          <a:blip r:embed="rId2"/>
          <a:stretch/>
        </p:blipFill>
        <p:spPr>
          <a:xfrm>
            <a:off x="1692360" y="1773360"/>
            <a:ext cx="4712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6" name="Picture 1" descr=""/>
          <p:cNvPicPr/>
          <p:nvPr/>
        </p:nvPicPr>
        <p:blipFill>
          <a:blip r:embed="rId1"/>
          <a:stretch/>
        </p:blipFill>
        <p:spPr>
          <a:xfrm>
            <a:off x="828720" y="1519200"/>
            <a:ext cx="7486560" cy="381960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3" descr=""/>
          <p:cNvPicPr/>
          <p:nvPr/>
        </p:nvPicPr>
        <p:blipFill>
          <a:blip r:embed="rId2"/>
          <a:stretch/>
        </p:blipFill>
        <p:spPr>
          <a:xfrm>
            <a:off x="1258920" y="1628640"/>
            <a:ext cx="4716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0" name="Picture 1" descr=""/>
          <p:cNvPicPr/>
          <p:nvPr/>
        </p:nvPicPr>
        <p:blipFill>
          <a:blip r:embed="rId1"/>
          <a:stretch/>
        </p:blipFill>
        <p:spPr>
          <a:xfrm>
            <a:off x="723960" y="1262160"/>
            <a:ext cx="7696080" cy="43336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3" descr=""/>
          <p:cNvPicPr/>
          <p:nvPr/>
        </p:nvPicPr>
        <p:blipFill>
          <a:blip r:embed="rId2"/>
          <a:stretch/>
        </p:blipFill>
        <p:spPr>
          <a:xfrm>
            <a:off x="1332000" y="1341360"/>
            <a:ext cx="4712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24:22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